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lap.wav" ContentType="audio/x-wav"/>
  <Override PartName="/ppt/media/chimes.wav" ContentType="audio/x-wav"/>
  <Override PartName="/ppt/media/drumroll.wav" ContentType="audio/x-wav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D5A7-A972-469E-9C04-956520C6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057D-E877-4ED7-980D-278E9FDF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A479-6D5F-4835-995E-BA6F11BD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371E-CF26-4369-9D96-D9685A13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24FC-5978-4199-82EB-951B4725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1844-EE9E-4E22-9600-48555E37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E8E5-E461-4123-B382-6D4DC7FA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A947-A5AF-4CB5-8C1F-F7E94FCB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2D25-0BF0-4C74-896B-6670A5D5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C588-A460-4C3B-B862-31642335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9BC9-CBC5-4BC7-84A4-200D25C6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F100-E955-4AE3-BE28-447C1C0D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1B2F-8DB4-4FF2-9564-7F91705AA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380880" y="496440"/>
            <a:ext cx="81536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tink Bug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d Other True Bu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y: Mrs. F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rown_stink_bug_adult" descr=""/>
          <p:cNvPicPr/>
          <p:nvPr/>
        </p:nvPicPr>
        <p:blipFill>
          <a:blip r:embed="rId2"/>
          <a:stretch/>
        </p:blipFill>
        <p:spPr>
          <a:xfrm>
            <a:off x="5654520" y="2743200"/>
            <a:ext cx="2651400" cy="3424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295280"/>
            <a:ext cx="800100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oes a stink bug really stink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990720"/>
            <a:ext cx="6781680" cy="41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Yes! A stink bug really does stink.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1219320"/>
            <a:ext cx="67816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A stink bug is a true bug. It is an insect and has 6     legs.       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g.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tink%20bug" descr=""/>
          <p:cNvPicPr/>
          <p:nvPr/>
        </p:nvPicPr>
        <p:blipFill>
          <a:blip r:embed="rId1"/>
          <a:stretch/>
        </p:blipFill>
        <p:spPr>
          <a:xfrm>
            <a:off x="349200" y="399960"/>
            <a:ext cx="8445600" cy="6058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drumrol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19320" y="43434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.Fay is a librarian at Volney Elementary School. She loves to work with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de students on research and Power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e" descr=""/>
          <p:cNvPicPr/>
          <p:nvPr/>
        </p:nvPicPr>
        <p:blipFill>
          <a:blip r:embed="rId2"/>
          <a:stretch/>
        </p:blipFill>
        <p:spPr>
          <a:xfrm>
            <a:off x="2362320" y="9144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lap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7:41:29Z</dcterms:created>
  <dc:creator>benos</dc:creator>
  <dc:description/>
  <dc:language>en-US</dc:language>
  <cp:lastModifiedBy>Fulton City School District</cp:lastModifiedBy>
  <dcterms:modified xsi:type="dcterms:W3CDTF">2011-01-07T18:47:38Z</dcterms:modified>
  <cp:revision>6</cp:revision>
  <dc:subject/>
  <dc:title>PowerPoint Presentation</dc:title>
</cp:coreProperties>
</file>